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C23-7F5B-4A4B-9B7F-3DFE3309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11C-116B-4525-B0A7-20E1CE3B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823-6609-4D43-B496-BC5A7356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C48-5022-4F9D-84DF-242DEB96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C9CD-E7DD-4CAE-9045-40A675A4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9885-6C5F-41D2-BB1E-6D27BA78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3325-0FB8-4190-B8FA-2D803E5B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7E91-9A15-496D-839A-B9468C61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FB3D-9314-4C7C-9057-F044CC98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35A7-6C0A-43AA-B9ED-FC64F0B5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D37D-5ED8-48D1-9F7F-CBCC0A36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926-F813-4C18-A6AB-A0C50F7A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0871-FB8B-40F7-B215-865BEC49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D79C-E8A1-42B4-B185-9A71E1AE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305F-C26E-4EAE-A19D-807173B1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8902-FB74-4416-B115-5BCB7C7A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9340-0534-49C1-8DB5-1256A39E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0B88F-8D98-4025-B70E-8AAEB4B4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A070-77C4-43B5-B8AB-2FFBB06D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1E50-09E7-40C0-8C78-AEC6B6BB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10BCA-EE80-4E8D-A791-C1647838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45B81-4C78-486A-82E5-EFA9885B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239-B2EA-45BF-A371-B55DF361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415C-1650-4D63-9B2F-F1DF07B6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64E8E-EA93-42AC-B548-1258F410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D916-9251-4D40-9A62-6EA20963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1D41A-0181-4879-A1CB-91511EEA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A710-D41B-4590-AA2F-A826D124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A1E43-EFCB-4897-BE7D-1599E764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7296-A255-4966-8CA0-ECFD4DC8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007AB-52DF-40C4-BDEA-C258AE09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1AEB-6CEB-4E11-A527-EEE8F739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16569-ABEB-439F-92D5-F5F88182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F22-EAE3-42CC-84E1-8A5D4E7C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B213A-B842-4E48-B1B3-88153ABE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30AA1-1EC9-4B4C-8734-CA731E26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6B12D-0A60-41EF-8B49-226F2488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F2237-9871-470C-B204-A1A8DABB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E80E6-E581-431D-AE1B-FE81CAEF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7DA0F-9815-4A2D-9BD0-A81CFACA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0F4B6-9572-4936-A8E8-5DF0903F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CA39B-8C38-4C76-BDDA-FEB74FAB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B92FC-4823-40AE-847B-C8ED2BF7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2C5-2C76-4162-B79A-5EEA0C13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576-809A-41B0-8D75-D8570D99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DC4-9B85-46E2-B625-25A5D336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FEF-3583-43FD-A90A-6F37FF4F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379-A3D7-47EE-957E-8D350660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9B08-E6DE-40F0-8B6C-90A07E0DCD93}" type="slidenum">
              <a:rPr b="0" lang="en-PH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1C62-3FA2-4DDF-BE1A-FB950FD83E7B}" type="slidenum">
              <a:rPr b="0" lang="en-PH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C913-32FE-462E-9DAC-917B8028AC6A}" type="slidenum">
              <a:rPr b="0" lang="en-PH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7A13-B88E-43CF-894B-9CCD33401453}" type="slidenum">
              <a:rPr b="0" lang="en-PH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990720" y="114300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Guidelines in the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Selection of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Instructional Material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9ecf7"/>
                </a:solidFill>
                <a:latin typeface="Copperplate Gothic Bold"/>
              </a:rPr>
              <a:t>THANK YOU!</a:t>
            </a:r>
            <a:endParaRPr b="0" lang="en-US" sz="9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334800" y="1158840"/>
            <a:ext cx="82854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termine the need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trying to accomplish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specific instructional media address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8" descr="8C1185C92DAD43EBB892E93DEC9157D3"/>
          <p:cNvPicPr/>
          <p:nvPr/>
        </p:nvPicPr>
        <p:blipFill>
          <a:blip r:embed="rId1"/>
          <a:stretch/>
        </p:blipFill>
        <p:spPr>
          <a:xfrm>
            <a:off x="4724280" y="220968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School library or media centre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Commercial producer and distributors of instructional media that can be bought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9" descr="Huge-Library-of-clipart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426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pperplate Gothic Bold"/>
              </a:rPr>
              <a:t>Check variety of sources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Arial Rounded MT Bold"/>
              </a:rPr>
              <a:t>Preview all materials before using them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pperplate Gothic Bold"/>
              </a:rPr>
              <a:t>Obtain and preview the materials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6" name="Picture 17" descr="0511-0902-0801-4559_Woman_Thinking_in_a_Library_clipart_image"/>
          <p:cNvPicPr/>
          <p:nvPr/>
        </p:nvPicPr>
        <p:blipFill>
          <a:blip r:embed="rId2"/>
          <a:stretch/>
        </p:blipFill>
        <p:spPr>
          <a:xfrm>
            <a:off x="4648320" y="19051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6840" y="1934640"/>
            <a:ext cx="4419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800" spc="-1" strike="noStrike">
                <a:solidFill>
                  <a:srgbClr val="000000"/>
                </a:solidFill>
                <a:latin typeface="Arial Rounded MT Bold"/>
              </a:rPr>
              <a:t>Effectiveness of materials to help the students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pperplate Gothic Bold"/>
              </a:rPr>
              <a:t>Try the materials out with student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0" name="Picture 11" descr="teacher-students"/>
          <p:cNvPicPr/>
          <p:nvPr/>
        </p:nvPicPr>
        <p:blipFill>
          <a:blip r:embed="rId2"/>
          <a:stretch/>
        </p:blipFill>
        <p:spPr>
          <a:xfrm>
            <a:off x="4952880" y="1905120"/>
            <a:ext cx="4030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400" spc="-1" strike="noStrike">
                <a:solidFill>
                  <a:srgbClr val="000000"/>
                </a:solidFill>
                <a:latin typeface="Arial Rounded MT Bold"/>
              </a:rPr>
              <a:t>More than one set of applicable materials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Bold"/>
              </a:rPr>
              <a:t>Compare any competing materials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4" name="Picture 9" descr="0041-0701-2312-2708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800" spc="-1" strike="noStrike">
                <a:solidFill>
                  <a:srgbClr val="000000"/>
                </a:solidFill>
                <a:latin typeface="Arial Rounded MT Bold"/>
              </a:rPr>
              <a:t>Select the best instructional materials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Bold"/>
              </a:rPr>
              <a:t>Make your selection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7" name="Picture 9" descr="teacher_clipart_1"/>
          <p:cNvPicPr/>
          <p:nvPr/>
        </p:nvPicPr>
        <p:blipFill>
          <a:blip r:embed="rId1"/>
          <a:stretch/>
        </p:blipFill>
        <p:spPr>
          <a:xfrm>
            <a:off x="5181480" y="1981080"/>
            <a:ext cx="3276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500" spc="-1" strike="noStrike">
                <a:solidFill>
                  <a:srgbClr val="000000"/>
                </a:solidFill>
                <a:latin typeface="Arial Rounded MT Bold"/>
              </a:rPr>
              <a:t>You can determine how effective the materials could be in other lesson.</a:t>
            </a:r>
            <a:endParaRPr b="0" lang="en-US" sz="4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Bold"/>
              </a:rPr>
              <a:t>Keep accurate records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0" name="Picture 9" descr="0511-0809-0704-1623_Frazzled_File_Clerk_Clip_Art_clipart_image"/>
          <p:cNvPicPr/>
          <p:nvPr/>
        </p:nvPicPr>
        <p:blipFill>
          <a:blip r:embed="rId1"/>
          <a:stretch/>
        </p:blipFill>
        <p:spPr>
          <a:xfrm>
            <a:off x="5105520" y="1828800"/>
            <a:ext cx="3581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rpuz, Brend B. and Lucido, Paz I (2008)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ducational Technology. Quezon city: Lorimar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blishing, In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aro, Candeleria D. (2004) Educational Technology.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ndaluyong City National Book Stor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ucido, Paz I. and Borabo (1997) Educational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echnology. Quezon City: Katha Publishing Co.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wby, Timothy J., Stepieh, Donald A., Lehman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ames D. and Russel James D. (2000)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tructional Technology for Teaching and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arning. New Jersey :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entice-Hall, In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28:36Z</dcterms:created>
  <dc:creator>A S P I R E</dc:creator>
  <dc:description/>
  <dc:language>en-US</dc:language>
  <cp:lastModifiedBy>msu-iit</cp:lastModifiedBy>
  <dcterms:modified xsi:type="dcterms:W3CDTF">2011-06-28T03:09:42Z</dcterms:modified>
  <cp:revision>7</cp:revision>
  <dc:subject/>
  <dc:title>Slide 1</dc:title>
</cp:coreProperties>
</file>